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679-8FE7-4E31-AB82-7EB6B3C7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924-0263-42F7-85F3-93D2DC1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4997C-E8BA-4CBD-A13B-7B02E6FC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AF414-D6C6-4A4B-BAE4-740D22DC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8EC7A-2423-4C01-B3AB-76A090EB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26AE5-76B1-40B9-8D9C-305868E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173CD-CD92-4699-A189-B289E7E6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33DA2-CBB9-435E-9427-9DB153A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119DC-C87D-4D21-A98F-3D362EBB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27383-0478-49C5-B9BE-57B2049D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4D721-7C3B-425F-926C-9E66660C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27D78-AB95-4A50-BE1A-28088842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0B9-394D-437B-8216-07FA0C38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9A622-A653-44D8-9A86-2172192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37EDB-0E97-4B30-AD37-C07923F1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47658-0057-47A2-A271-658C0EC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B0F3B-B2D6-4982-90E8-9E1931AB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C436B-6B15-432A-B554-04D09B86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7F15E-0131-4DD4-B55F-14318E3A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0EAE9-AD58-428B-9A44-5F5BFEE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3C7DD-0CF7-4646-961C-D8F1D92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C22C6-4D82-4A59-8507-C16F841C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0CEF6-AC88-4087-A732-4EA98335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052-74A2-4AD1-8C70-8CCA01F9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40869-365A-4C29-90B6-9D99CBFD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1DB18-25DF-47DB-90B3-DB16CFD0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BD821-C09E-419A-BF4F-330E6789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B3E4E-7C37-4816-82C9-FC1446D4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0D725-852E-40DD-90CC-FED89C61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0C8DC-E84D-47CB-85B0-412BECD9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FFD78-5FD1-4214-BA37-9C7E7C00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03D41-B44D-4794-974B-3174626A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7267C-775B-4A7D-8124-6DA5B563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8EECD-1046-4DAC-864A-3DB8005B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1F5C-5AD9-40C3-A355-7F31562C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B683F-268A-419F-8BE4-F66DDA96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1867D-7521-4219-B58D-9DCC49E9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1F2B8-442D-4BD8-B20C-A22EEF4E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91968-E59D-41C7-8180-6532B7D0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D1300-7AAB-4194-AB26-70007F18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4A062-FDCC-49F0-99E8-E126C6BF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96FBB-84E4-4E5D-953A-ADDF49A9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CA1BD-C2E9-4808-851D-97F4B9E6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4021B-021F-48F6-B164-55D33825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AE1B1-B6CC-4583-9A53-2DEDBF33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30EC-B5EF-4E6E-8FC1-EAC1380B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F6766-94D5-4D11-A1D5-AE65B4AC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9898F-2258-4453-9474-35D0C08C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F974B-D4BD-4314-88DF-41A640DE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43D41-1340-44A4-A35E-9778E133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1807E-7283-4E4F-AF28-4B63EC72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BE3B-0648-461A-AEBC-E4756890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16FA-F058-46BC-8A23-7501CB72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F1A3-4F44-4AA3-9567-B16F42ED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103E-F986-4BDA-9031-67B4AB26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DC92-4E45-404B-9CA0-F07B0FC9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73D-F93F-45EF-BAA5-92E54A21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1068-1C45-41AE-BC56-C0B20162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C129-92CA-4478-BE08-7DECF67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5FA8-6D86-44A0-98C2-1543EF0A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A4BC-6195-486A-A895-CBFC18CD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A666-DAEC-472F-A529-E5160445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AFDC-6E94-4A1A-BC52-6A98FE9A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BF0B-702D-48A1-86FE-A584E835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12C8-451A-4BEE-A333-FDA5ACB9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C1C9-6B06-4874-B21B-2326D8E4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BAF17-6D69-4E4B-8646-741ABC50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6B3-D1EA-401A-B4E8-70E223BF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5B92-6D82-403E-8CFB-AD7D50FD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FA5A-07D8-4BAA-AA91-4A745BD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2D46-0DD2-4B1C-8251-BE86031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CB63-0470-4897-9F41-F0CB49AD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0DBE7-D167-47B8-8BA9-77D4D1D3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918F-3101-4496-A882-EEDF0429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2977-8670-4D5F-92EA-ABCCFE60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47577-002E-4B00-949F-DBAD1A47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28E42-7395-4AF7-9C1A-17B18990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4E5EB-FBF7-4B19-A244-566135BD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2E1-2C71-48B4-AC43-3A7F5CB6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C2E0-248F-4EF7-BDEE-DDD2D015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5988-2664-498F-9F17-DF8150A9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16FC-0538-4C55-B81A-290E9F1E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3139-5949-498F-961F-0C35262E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16BE-142D-4AE1-83B0-855B327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1299-88B1-4036-B783-FA9B8D21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602B-573D-44AB-834A-231F7BF9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3AE1A-61F8-4309-B43C-656B7563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9FD0-0A7F-4BA3-85B5-781BF8AA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27B68-FADF-4B74-9619-6CFBDB6E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D77-7B25-4EB1-9162-1BA580C0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09E1-217E-4F08-8F1B-AF7A1060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E31B3-3B1E-45E9-83A1-9DF41837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55A49-08A9-46DF-A822-AB069B0A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A343-3DE5-46B3-9BDB-40D3770E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BF43C-4A2C-44FC-A613-F23CD9BD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210E6-C20F-4D83-872E-1BD9629D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BD08-B54B-4D30-B882-2160BA7E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ACF83-C4A0-4A1F-B2BD-EF2AB598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E95CD-0648-409D-AC23-CAE6328B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3B37-7D53-4387-885C-1A982BDA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C84-4741-43FA-A949-01AAB513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307AA-2336-4BAD-9B41-15DF9472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2D39-B941-4582-8484-C1BDEDBE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FD9A-23F7-4C76-8029-DB4B9F11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4B076-CA3D-4CFC-89FF-35155E6B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85DC8-7E6D-4AFE-9BB0-79247EA6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05680-1C4A-401C-ACAC-422EBFCE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C1D81-E2E6-4572-B386-ECE95613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A11EA-CA71-4CFA-9F14-2537DC15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A490E-268B-41DD-A83C-A1BDF5A0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8F0DF-F02A-4A20-BAAA-57618741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2BE-25A7-473E-8A27-30D14B0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06CE3-DCF3-4A71-960D-D7C391C4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E91E0-5642-442A-8FF9-E16771FA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B93A9-C06B-44C3-9A46-D7976F4E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D68F-0203-4B69-AC39-EA9B8CBE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50850-62C2-40D3-9EC0-15DA5DDD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A33E0-6C73-49C4-BC2B-3BB65767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6C5D9-0EA1-4EB8-A529-7E512833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8D1B-F4DF-42AB-ADE0-E046892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693C9-F2CB-4788-9FD8-3AC5EE22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D4A3A-54CC-41A6-8257-1CEA991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41B-CD71-4C5E-9E87-0067CCE3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017E-0009-4D1F-ABAE-8BB8FCD4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06301-C6D9-4ACC-9DA5-7AB795AC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D3EC3-D780-43F5-AF21-5CA2405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8D764-D2A2-4035-8CFD-9D61E887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948B-D40A-497D-9797-DD0EAD16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45892-8090-42B3-AAF9-9B7BB8B0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90EB4-D5EA-4E9E-B1FC-DA5B14EF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914D1-AFA4-4245-9347-928404AA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21612-8E04-467A-818A-FA2E85E6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89F28-A5BB-4759-A54B-8F0C8449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BB7-342E-4D9B-B3FA-9711AD45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91ADE-B473-42BD-AA71-462AD63A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F6CB7-CF56-4C06-99C0-CEEEE74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9DB83-F479-4BDE-8C18-EC7264F3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68F87-1B81-46FD-8697-B987649E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70830-5D0A-4701-9272-D9A821BB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1506E-76B6-43B9-A8E2-3253B042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AAED6-671A-49E1-BF00-65B17C38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6FFD6-4B2A-43B8-BEEA-10F04E13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AB18C-15C1-4192-AF53-B92565D7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F05AE-061A-4A4C-A119-4FE32EB7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ED2B-88B3-41D3-9F8D-2D91C67129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2C8D-14BD-4E59-B57B-C72AD4802C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8CE9-B2E1-43C2-AAED-65BB44031D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D8B7-5C5A-4F55-B133-70C86B51424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744A-043B-414E-97C0-83CE5B0844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FD58-4ED9-46D8-A55C-EC5D66923E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D46E-B152-4EEE-AD5B-58B3870196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C7EE-39CC-4CC6-97FC-FAD00A97C9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DE6B-67DD-4B95-888B-4DE4975E84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D5D1-D6E9-4AD2-A44A-C57A36341F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07ED-28DC-49BF-8DFA-AA90984CBC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AAF0-C3C0-4CA8-B818-D4F7A25677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81 B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 nami, Duchu Svätý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uď s nami, Duchu Svätý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drahý Teš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y tvojou láskou spä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e stihli večný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ám svetlom pravdy jasn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iaď nášho žitia be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konci púte časn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aj uzr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pásy breh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3:00:18Z</dcterms:modified>
  <cp:revision>23</cp:revision>
  <dc:subject/>
  <dc:title>Je veľký náš Pán, on slávy je Kráľ Nech do všetkých strán  spev vrúcnych znie chvál.</dc:title>
</cp:coreProperties>
</file>